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167-07AC-4546-87CA-427C3369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B7F-198A-42A0-A52F-21AF1077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124-D2FD-44F4-8885-406D8CBD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01C-3F82-4254-91E0-670E95CF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2CEC-E4FE-4283-918D-6C1CBFEB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7AE9-8860-4AEA-930F-623DD9E8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1A12-6D69-49A2-9C81-9E66CF4A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6338-0276-4C10-A021-50A6B2CA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F943-EB90-4795-B274-1963B47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F0DF-7D50-4179-B0A2-970BBB2E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4630-44D4-492E-941A-02E9D643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13B-71E8-43C6-AE11-DF37A8D2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F6F-D46C-4839-B484-A7691C23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A995-3706-4DAB-9095-EB2D228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3A33-4664-4EA8-BDF3-DD80D026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0DF6-64E3-4BDB-AB0B-4AB3E6EFE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6D74-73D9-4A07-8D08-F259888C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FD1-97DE-4059-BCCD-95E7D9CB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9B8-BE93-4E0B-A4A9-65D6547F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399-C642-4DB8-BA95-C6476233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A8B-6814-428C-8FD9-1F7CC562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863-0CE2-482E-BAF0-9E7CD8AD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4FF1-8453-4FA0-BD4F-CE8CA4B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673-B698-4A6F-B049-8B18014B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5AE4-DED1-4571-8AAC-33A36F522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AAA3-CA03-4B6F-BAC1-700B6886B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kK1bT8ls0M&amp;feature=player_embedded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12.nysed.gov/specialed/RTI/guidance/cover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Response to Intervention (RtI)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&amp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The IST Proces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429000" y="4876920"/>
            <a:ext cx="2666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elphi Univers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81280" y="274320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mbers  of an I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re Te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T Chairperson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idance Counselor or Social Wo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 Therap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Psychologi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(those that vary)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room Teacher / Special Education / Rea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/ Math Curriculum Associ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rse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on (when appropri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Solid IST Process includ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Diagram 5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629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Diagram 7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108840" cy="4174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nchmarking and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ogress Monitor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O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C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Summer and Fall Training Workshops"/>
          <p:cNvPicPr/>
          <p:nvPr/>
        </p:nvPicPr>
        <p:blipFill>
          <a:blip r:embed="rId2"/>
          <a:srcRect l="25345" t="0" r="6196" b="60451"/>
          <a:stretch/>
        </p:blipFill>
        <p:spPr>
          <a:xfrm>
            <a:off x="6553080" y="6019920"/>
            <a:ext cx="2438640" cy="653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429000" y="4114800"/>
            <a:ext cx="6858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ae8"/>
                </a:solidFill>
                <a:latin typeface="Arial"/>
              </a:rPr>
              <a:t>Tier I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160" y="57240"/>
            <a:ext cx="925812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297180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409760" y="4648320"/>
            <a:ext cx="6438960" cy="25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52680" y="5029200"/>
            <a:ext cx="262908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2629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90720"/>
            <a:ext cx="1676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2217800">
            <a:off x="18072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518148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2775200">
            <a:off x="101880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72200" y="35053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0552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3111800">
            <a:off x="2085840" y="77436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Pyramid of Interven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Essential Components of Succes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4" name="Diagram 7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89920" cy="56512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429000" y="297180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 Structure &amp; Compon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er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# of leve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 based core instructional progra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.g. reading, math and wri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screening and progress monitor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-making proces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roblem solving vs. standard protocol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using a problem solving approach --- composition of the 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cedures to ensure fidelity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rent involvement and notification proced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riteria and Decision Rules for Determining Levels of Interven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ut poi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determine individuals at risk based on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iversal Scree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judging whether a student is progressing adequately in response to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decision rules for movement of students between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riter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determining when an intervention is no longer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u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equenc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interventions designed t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supple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ier I or core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determining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ype of interven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luding: focus of instruction, size of instructional group, appropriate instructional setting, and appropriately traine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gress monitoring procedures and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632448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p12.nysed.gov/specialed/RTI/guidance/cover.ht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ree Tier Mod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25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1295280" y="457200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lity Classroom Instruction based on NYS Curriculum and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50532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lemental Instruction in addition to the standard classroom 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362320"/>
            <a:ext cx="51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plicit, intensive instruction specifically designed to meet individual nee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4343400"/>
            <a:ext cx="8381880" cy="160020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tudents in class (should meet the needs of at least 80% of all learn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ally based curriculum reflecting state standar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tiple and Flexible grouping formats to meet student needs (Differentiated Instruct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ily, uninterrupted 90 minute block of reading instruction focusing on phonemic awareness, phonics, vocabulary, fluency, and comprehensio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versal Screening / Benchmark Assessment (3x / yea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 Teach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-10% of students who have not responded to tier 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provided in addition to and not in place of core instr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 group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20-30 minutes of supplemental interventions 3 – 5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no less than every two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 Education or other qualified personnel determined by the scho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ier III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: At-a-Gl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600200"/>
          <a:ext cx="8229600" cy="506556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c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5% of students who have not responded to tier II effor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lemental instruction that differs from tier II in terms of time, duration, group size, frequency of progress monitoring, and foc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rou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vidualized instru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e Instruction + 30-60 minutes of supplemental interventions at least 4 days / week for a period of 9 – 30 wee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ess monitoring at least 1x / we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ventioni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ly skilled or trained interventionists in the area of academic need indicated by performance da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in or outside of the classro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cus on a student struggling in reading… “I need help!”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he Role of the IST (problem solving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the needs of the stu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look at the data (including influencing facto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specific deficit area(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 options and decide on specific research based inter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goals for progress and Increase self-awareness of the students (age appropriate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a cycle of follow-up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progress (student and t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setup</cp:lastModifiedBy>
  <dcterms:modified xsi:type="dcterms:W3CDTF">2011-03-11T19:13:14Z</dcterms:modified>
  <cp:revision>22</cp:revision>
  <dc:subject/>
  <dc:title>Response to Intervention (RTI) &amp; The IST Process</dc:title>
</cp:coreProperties>
</file>